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0864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FCD-C5D8-4F1C-A202-7C9A5621E3D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08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Briefly state the purpose of correlational research, and describe the major steps involved in basic correlation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the size and direction of values associated with a correlation coefficient, and explain its relation to statistical signific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range from –1 to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rrelation of 0 indicates no relationsh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+.35 and -.35 represen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+.35 and +.65 or between -.35 and -.65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de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.65 and 1.0 or between -.65 and –1.0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relationship studies is to gain insight into variables or factors that are related to a complex variable (e.g., retention, academic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studies help researchers to determine which variables may be suitable for futur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studies provide insight into which variables should be controlled for in future causal-comparative or experimental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first identify variables to be corre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should be purposely identif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maller number of carefully identified variables is preferable to a larger number (e.g., shotgun approach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dentifying variables the researcher next identifies the appropriate population and sampling procedure to select participants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relationship studies data are collected all at one time or in several sessions conducted in close succ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elationship studies scores from one variable are correlated with scores for another variable; or scores for several variables are correlated with a particular variable of inter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 is a single correlation coefficient or a number of correlation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 of calculating a correlation coefficient depends upon the nature of the d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is the most common and most precise coefficient. Pearson r is used for continuou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pearman rho coefficient is appropriate to use when one of the variables are represented by rank-order data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h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is used when both variables are expressed as a categorical dichot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orrelation coefficients are appropriate given characteristics of the data collected, sample size, and underlying data distribu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Kendall’s tau, Biserial, Point biserial, Tetrachoric, Intraclass, e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factors may contribute to inaccurate estimates of relation among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relationships that are curvilinear will effect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occurs when measures have low reliability and may provide inaccurate correlation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range in scores generally leads to underestimates of re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tate the major purposes of relationship studies, and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Courier New"/>
              </a:rPr>
              <a:t>and identify and briefly describe the steps involved in conducting a relationship study and interpreting the dat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major purposes of prediction studies, and identify and briefly describe the steps involved in conducting a prediction study and interpreting the dat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wo variables are highly related, scores on one variable can be used to predict scores on the 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able used to predic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di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able that is predicted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ediction study is used to determine which variables are the most highly correlated with a criterion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variable can be used to make predi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 all measures should be valid meas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especially critical that the criterion variable be validly meas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, sometimes the predictor variables are administered prior to the criterion variable (e.g., SAT and university GP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tion is a problem in some prediction stud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nkage, or the tendency to find less accuracy in predicting criterion variables in subsequent samples, is often noted in prediction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validation is the process of conducting subsequent prediction studies with new samples to verify effects found in an initial prediction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, data analysis involves correlating predictor variables with the criterio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ngle variable prediction equation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a+b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 Predicted criterion score for an 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= An individual’s score on the predictor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 A constant calculated from scores of all particip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 A coefficient that indicates the contribution of the predictor variable to the criterio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gression is used when a combination of variables is used to predict a criterion variable (e.g., Success in Algebra may be predicted by prior knowledge, prior achievement, aptitude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ening variables may lower prediction accuracy (e.g., teach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mount of common variance shared by predictors is the squared correlation of the predictors and the criterion and is referred to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efficient of determin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ther Correlation-Based Analy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criminate function analysis,  continuous variables are used to predict a categorical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onical analysis produces a correlation based upon a group of predictor variables and a group of criterion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analysis provides a diagram that illustrates how variables are related to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ther Correlation-Based Analy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al equation modeling, or LISREL, extends path analysis and predicts relations among variables with added pr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 analysis is used to decrease the number of variables under consideration by grouping variables into clusters called fa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Correlation Coeffici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considerations can assist researchers when interpreting correlation coeffici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 the proper correlation method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the variables have high reliabilities? Low reliabilities lower the chance of finding significant re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validity of the variables strong? Invalid variables produce meaningless resul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Correlation Coeffici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range of scores to be correlated restricted or extended? Narrow or restricted score ranges lower correlation coefficients, whereas broad or extended score ranges rais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large is the sample? The larger the sample the smaller the value needed to reach statistical significance. Large samples may yield correlations that are statistically significant but practically unimporta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correlational research is to determine the nature of relations among variables or to use these relations to make predi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often examine numerous variables believed to be related to complex variables (e.g.,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ated variables are discarded from future studies while those related may be examined further through causal-comparative or experimental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correlations among variables do not imply causation (e.g., self-concept and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procedures are also used to examine reliability and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are designed to explore whether and how variables are re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are designed to test hypotheses regarding expected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and instrument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s are derived from acceptable sampling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must include at least 30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liability and validity of instrumentation is lower, sample size must be lar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nd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share a simple design. Scores for two or more variables of interest are obtained for each member of the sample and these scores are then correlated (e.g., self-concept and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ning of a correlation coefficient will vary depending upon purp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size effects the strength of a correlation coefficient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correlation coefficients that are statistically significant may not represent meaningful signific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do not represent percentage of relation between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quare of the correlation coefficient indicates the amount of variance shared by the variables (shared varianc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 correlation of .50 indicates 25% shared vari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1:10:07Z</dcterms:modified>
  <cp:revision>90</cp:revision>
  <dc:subject/>
  <dc:title>AutoCAD Architecture 2008: Part I: Getting Started</dc:title>
</cp:coreProperties>
</file>